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8A3-B5DC-4ECE-92B7-E1C32A99015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F779-2C65-479E-9B5B-C01F2BA4DDF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E787-5882-4EC8-B875-DB3B4DFDD5D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67B2-B5D8-4F27-B895-616ADEEAF9C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28C-84E0-4028-8450-95CF52F4F84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4403-E1AE-4670-BCF4-79BB193C0F7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EE0F-5307-4271-BB76-468135FC80E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DF4A-46AB-47B3-8424-4E42568D9A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DB45-2469-49F0-86CA-07B67EA332D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1F5-2383-4AB5-BADF-DB38551D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CA4-F503-40DC-8C1C-1DB674AC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181-948F-4F3D-A4B1-CB4B9E65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F47-8696-4C81-8953-B76E7821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FED-FB71-44F1-B46A-87CFC7BC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058-DC91-4CDE-AA68-370934C1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E65-9AE1-4E00-A678-691C55E4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942-BBD2-4F12-9212-4A13B9DF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FB5-5283-4321-9EF5-28B312B4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5D1-9C97-4063-BDD0-947A5F18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F9D-3178-486E-8BE3-3DE55A6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ADC-F96F-4439-9889-AA1854F2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D988-7B6D-44A7-9632-87E4631F4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49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living and nonliving things in an area that interact with each 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4800600" y="30492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nonliving part of an eco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228600" y="364644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i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living part of an ecosyst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4876920" y="372276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otic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the organisms of one species that live in an area at the same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62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study of how living things and their organism inter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4800600" y="3049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person who studies how living things and their environment inter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228600" y="364644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the populations living in an are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4876920" y="372276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rea in which an organism l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75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2"/>
          <p:cNvSpPr/>
          <p:nvPr/>
        </p:nvSpPr>
        <p:spPr>
          <a:xfrm>
            <a:off x="304920" y="380880"/>
            <a:ext cx="40384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ole of an organism in its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800600" y="3049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ath that energy takes from producers to consumers to decompo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228600" y="364644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od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overlapping food chains in an ecosyst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4876920" y="372276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o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animal that eats only produc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88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12"/>
          <p:cNvSpPr/>
          <p:nvPr/>
        </p:nvSpPr>
        <p:spPr>
          <a:xfrm>
            <a:off x="304920" y="380880"/>
            <a:ext cx="40384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bi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animal that eats other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4800600" y="30492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ni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ving things that hunt other living things for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228600" y="364644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living thing that is hunted for fo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4876920" y="372276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eat eating animal that feeds on the remains of dead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101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12"/>
          <p:cNvSpPr/>
          <p:nvPr/>
        </p:nvSpPr>
        <p:spPr>
          <a:xfrm>
            <a:off x="304920" y="380880"/>
            <a:ext cx="40384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av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animal that eats both plants and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4800600" y="30492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mni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ything that controls the growth or survival of a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228600" y="364644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m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andy or rock biome, with little precipit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4876920" y="372276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cool forest biome of conifers in the upper hemi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114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large treeless plain in the arctic region where the ground is froz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800600" y="3049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n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hot biome near the equator, with much rainfall and a wide variety of lif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228600" y="364644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op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in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forest biome with many kinds of trees that lose their leaves each autum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4876920" y="372276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id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biome where grasses, not trees are the main plant lif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127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as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large ecosystem with its own kind of climate, soil, plants, and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4800600" y="3049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ype of relationship where one organism is helped and the other one is ha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228600" y="364644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asi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ype of relationship where both organisms benef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24280" y="3733920"/>
            <a:ext cx="4038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tu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ype of relationship where one organism is helped and the other is un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140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ens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happens to the number of prey when the number of predators ri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800600" y="30492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y living thing that can carry out its life on its 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228600" y="40384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ish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3:04:48Z</dcterms:created>
  <dc:creator>joe</dc:creator>
  <dc:description/>
  <dc:language>en-US</dc:language>
  <cp:lastModifiedBy>Lisa Garrison</cp:lastModifiedBy>
  <dcterms:modified xsi:type="dcterms:W3CDTF">2010-05-05T02:51:37Z</dcterms:modified>
  <cp:revision>12</cp:revision>
  <dc:subject/>
  <dc:title>Slide 1</dc:title>
</cp:coreProperties>
</file>